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C535-1F64-452F-853B-0EAAEA7A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DE54-2C2F-48A3-A36F-E867A746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D79B-B806-4DC7-B087-F58CBEF7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80A6-5FA6-40CF-99AE-29DE85CC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394A-DB35-4A01-BB55-7BC6398E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2E51-5567-4F64-8C55-D31F2428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2814-6645-4D41-A946-D6759C79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F44-8D76-4F50-A09C-908D5765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D788-9F09-43E6-9929-16E5CC94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3DE-7801-4CBC-B68D-53656D57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BE1C-3E42-4F09-8391-73E6B806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A03-5136-43FB-8508-3F0D5932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D7F0-D929-4431-86B9-011C90F448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viz.cwrl.utexas.edu/files/26.jpg"/>
          <p:cNvPicPr/>
          <p:nvPr/>
        </p:nvPicPr>
        <p:blipFill>
          <a:blip r:embed="rId1"/>
          <a:stretch/>
        </p:blipFill>
        <p:spPr>
          <a:xfrm>
            <a:off x="0" y="0"/>
            <a:ext cx="4903920" cy="7029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2268360" y="5805360"/>
            <a:ext cx="7129800" cy="70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he Russian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260280"/>
            <a:ext cx="51483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They believed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0" y="1916280"/>
            <a:ext cx="9144000" cy="11912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Everyone should have an equal share in Russia’s weal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0" y="3429000"/>
            <a:ext cx="914400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easants should have a share of the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0" y="4365720"/>
            <a:ext cx="9144000" cy="11912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Workers should own a share of the factory where they wor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0" y="5783400"/>
            <a:ext cx="914400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war should be ended immediat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55567"/>
          <p:cNvPicPr/>
          <p:nvPr/>
        </p:nvPicPr>
        <p:blipFill>
          <a:blip r:embed="rId1"/>
          <a:stretch/>
        </p:blipFill>
        <p:spPr>
          <a:xfrm>
            <a:off x="0" y="2060640"/>
            <a:ext cx="5580000" cy="4394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4" name="Text Box 6"/>
          <p:cNvSpPr/>
          <p:nvPr/>
        </p:nvSpPr>
        <p:spPr>
          <a:xfrm>
            <a:off x="0" y="260280"/>
            <a:ext cx="558000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On 25 October 1917, the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 Black"/>
              </a:rPr>
              <a:t>Bolsheviks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seized power from the provisional government in St Peters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5867280" y="260280"/>
            <a:ext cx="2952720" cy="33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painting shows th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Bolshevik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‘storming’ th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Winter Palac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Inside were the government ministers and their soldi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867280" y="3429000"/>
            <a:ext cx="2952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nk of some words to describe th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 Black"/>
              </a:rPr>
              <a:t>mood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aptured by this pa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5867280" y="4508640"/>
            <a:ext cx="2952720" cy="192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ow can you tell from the painting that the artist supported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 Black"/>
              </a:rPr>
              <a:t>Bolshevi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155567"/>
          <p:cNvPicPr/>
          <p:nvPr/>
        </p:nvPicPr>
        <p:blipFill>
          <a:blip r:embed="rId1"/>
          <a:stretch/>
        </p:blipFill>
        <p:spPr>
          <a:xfrm>
            <a:off x="0" y="260280"/>
            <a:ext cx="5580000" cy="4394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9" name="Text Box 5"/>
          <p:cNvSpPr/>
          <p:nvPr/>
        </p:nvSpPr>
        <p:spPr>
          <a:xfrm>
            <a:off x="5724360" y="260280"/>
            <a:ext cx="3168720" cy="228852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painting portrays the 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Bolshevik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as great heroes who fought hard to capture the Winter Palac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0" y="4797360"/>
            <a:ext cx="5580000" cy="192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ilors who were supposed to help 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Black"/>
              </a:rPr>
              <a:t>Bolshevik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rrived late; the guns were too rusty to fire; no-one could find the red lantern which was to signal the start of the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724360" y="3068640"/>
            <a:ext cx="316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Bolsheviks only succeeded becaus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hardly anyone came to support the provisional government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Even some of the soldiers went to eat their evening meals instead of figh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404640"/>
            <a:ext cx="52563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Work in pairs.  One of you is a supporter of the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 Black"/>
              </a:rPr>
              <a:t>Bolsheviks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.  The other is an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Black"/>
              </a:rPr>
              <a:t>opponent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384720" y="1916280"/>
            <a:ext cx="5795640" cy="2022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 Black"/>
              </a:rPr>
              <a:t>Suppor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ink of two reasons why the October revolution was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something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to be proud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384720" y="4221000"/>
            <a:ext cx="5795640" cy="202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 Black"/>
              </a:rPr>
              <a:t>Oppon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nk of two reasons why the October revolution was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noth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o be proud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0" y="260280"/>
            <a:ext cx="27367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The Pe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659640" y="379440"/>
            <a:ext cx="2411280" cy="49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fter the October Revolution, the Russian people were desperate for peace with Germ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5029200"/>
            <a:ext cx="6516720" cy="180036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Germans made harsh demands.  Lenin was afraid that if a peace treaty was not signed, German troops would capture St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Brest-LitovskTreaty460x276"/>
          <p:cNvPicPr/>
          <p:nvPr/>
        </p:nvPicPr>
        <p:blipFill>
          <a:blip r:embed="rId1"/>
          <a:stretch/>
        </p:blipFill>
        <p:spPr>
          <a:xfrm>
            <a:off x="0" y="981000"/>
            <a:ext cx="6516720" cy="3909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Brest-litovsk-feb-9-1918a"/>
          <p:cNvPicPr/>
          <p:nvPr/>
        </p:nvPicPr>
        <p:blipFill>
          <a:blip r:embed="rId1"/>
          <a:srcRect l="0" t="0" r="0" b="12494"/>
          <a:stretch/>
        </p:blipFill>
        <p:spPr>
          <a:xfrm>
            <a:off x="971640" y="907920"/>
            <a:ext cx="8172360" cy="4687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0" y="333360"/>
            <a:ext cx="7201080" cy="94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March 1918 the two sides finally signed the 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Treaty of Brest Litov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0" y="1700280"/>
            <a:ext cx="2556000" cy="33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ny Russians felt that the treaty brought 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hameful peace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The Russians were forced to give up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erritor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at inclu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356000" y="4834080"/>
            <a:ext cx="4788000" cy="204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mic Sans MS"/>
              </a:rPr>
              <a:t>34% of Russia’s popul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mic Sans MS"/>
              </a:rPr>
              <a:t>32% of Russia’s agricultural la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mic Sans MS"/>
              </a:rPr>
              <a:t>54% of Russia’s factor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mic Sans MS"/>
              </a:rPr>
              <a:t>89% of Russia’s coal mi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9" descr="01"/>
          <p:cNvPicPr/>
          <p:nvPr/>
        </p:nvPicPr>
        <p:blipFill>
          <a:blip r:embed="rId1"/>
          <a:stretch/>
        </p:blipFill>
        <p:spPr>
          <a:xfrm>
            <a:off x="0" y="2214720"/>
            <a:ext cx="6012000" cy="4643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0" y="189000"/>
            <a:ext cx="4032360" cy="192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Bolsheviks seized power quickly but were not yet in control.  Many people opposed the new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111640" y="3213000"/>
            <a:ext cx="403236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om the very beginning Lenin set to destroy all opposition pa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111640" y="333360"/>
            <a:ext cx="4032360" cy="2654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n election was held in November 1917.  The Bolsheviks did badly but Lenin had no intention of losing power.  He was determined to make Russia commun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248000" y="5084640"/>
            <a:ext cx="4896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ussia became a one party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15"/>
          <p:cNvPicPr/>
          <p:nvPr/>
        </p:nvPicPr>
        <p:blipFill>
          <a:blip r:embed="rId1"/>
          <a:stretch/>
        </p:blipFill>
        <p:spPr>
          <a:xfrm>
            <a:off x="4092480" y="0"/>
            <a:ext cx="5159520" cy="70293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0" y="333360"/>
            <a:ext cx="4356000" cy="192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communists knew that if they were to remain in power they had to keep the promises that they had made to the Russian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0" y="2492280"/>
            <a:ext cx="31320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y aimed to make Russia a more equal society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0" y="3933720"/>
            <a:ext cx="4751280" cy="94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king women equal to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0" y="4724280"/>
            <a:ext cx="3456000" cy="192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easants who had grain surplus had to hand it over to the government to share out to the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factory_sorting"/>
          <p:cNvPicPr/>
          <p:nvPr/>
        </p:nvPicPr>
        <p:blipFill>
          <a:blip r:embed="rId1"/>
          <a:stretch/>
        </p:blipFill>
        <p:spPr>
          <a:xfrm>
            <a:off x="2195640" y="816120"/>
            <a:ext cx="6948360" cy="6041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Text Box 4"/>
          <p:cNvSpPr/>
          <p:nvPr/>
        </p:nvSpPr>
        <p:spPr>
          <a:xfrm>
            <a:off x="0" y="404640"/>
            <a:ext cx="3240000" cy="192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ories were taken away from their owners and placed under the control of workers committ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0" y="4221000"/>
            <a:ext cx="2771640" cy="192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maximum 48 hour working week was declared for factory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lenin_rally"/>
          <p:cNvPicPr/>
          <p:nvPr/>
        </p:nvPicPr>
        <p:blipFill>
          <a:blip r:embed="rId1"/>
          <a:stretch/>
        </p:blipFill>
        <p:spPr>
          <a:xfrm>
            <a:off x="2124000" y="1557360"/>
            <a:ext cx="7020000" cy="48830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0" y="1700280"/>
            <a:ext cx="608472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ney and jewellery belonging to rich people were taken by th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5229360"/>
            <a:ext cx="6227640" cy="94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ich people were forced to share their houses with poor fami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0" y="333360"/>
            <a:ext cx="471636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 land was taken away from the Tsar and the old landl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900000" y="2060640"/>
            <a:ext cx="8244000" cy="3934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oday you will be learning about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 Black"/>
              </a:rPr>
              <a:t>Russian Revolution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.  This will help you to understand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Comic Sans MS"/>
              </a:rPr>
              <a:t>Russian/Soviet propaganda posters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that you will be influenced by when you produce your own wo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0" y="189000"/>
            <a:ext cx="673272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ny rich and educated peopl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escap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rom the new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regim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  For many of those who stayed life becam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unbearabl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U153365INP"/>
          <p:cNvPicPr/>
          <p:nvPr/>
        </p:nvPicPr>
        <p:blipFill>
          <a:blip r:embed="rId1"/>
          <a:stretch/>
        </p:blipFill>
        <p:spPr>
          <a:xfrm>
            <a:off x="2050920" y="1593720"/>
            <a:ext cx="7093080" cy="5264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2" name="Text Box 6"/>
          <p:cNvSpPr/>
          <p:nvPr/>
        </p:nvSpPr>
        <p:spPr>
          <a:xfrm>
            <a:off x="6659640" y="573408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 aristocrats clearing snow in the stre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0" y="1838160"/>
            <a:ext cx="2448000" cy="265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rdinary Russians wer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hostil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owards them.  Armed gangs raided their ho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0" y="4365720"/>
            <a:ext cx="4140360" cy="2288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istocrats, factory directors, lawyers, artists, priests and teachers were rounded up and forced to do jobs like clearing rubbish from the stre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1619280" y="2205000"/>
            <a:ext cx="590544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 these changes make you think that Russia was becoming a fairer socie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800px-Tobolskhouse2"/>
          <p:cNvPicPr/>
          <p:nvPr/>
        </p:nvPicPr>
        <p:blipFill>
          <a:blip r:embed="rId1"/>
          <a:stretch/>
        </p:blipFill>
        <p:spPr>
          <a:xfrm>
            <a:off x="0" y="287280"/>
            <a:ext cx="7315200" cy="4654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7" name="Text Box 4"/>
          <p:cNvSpPr/>
          <p:nvPr/>
        </p:nvSpPr>
        <p:spPr>
          <a:xfrm>
            <a:off x="3348000" y="549360"/>
            <a:ext cx="5796000" cy="100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fter the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abdication of the Tsa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n March 1917 the members of the Royal family (the Romanovs) were placed under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house ar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408720" y="1844640"/>
            <a:ext cx="2735280" cy="131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the Bolsheviks they were a symbol of centuries of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unfair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0" y="5121360"/>
            <a:ext cx="9144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a palace near St Petersburg, they spent their days gardening, reading etc but they ha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no pow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  Guards patrolled the garden to make sure that they could not esc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189000"/>
            <a:ext cx="8459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Romanovs soon became a big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proble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or the Bolshevik government; they feared that if the Tsar escaped he might help th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opponents of a new regim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deathcellar"/>
          <p:cNvPicPr/>
          <p:nvPr/>
        </p:nvPicPr>
        <p:blipFill>
          <a:blip r:embed="rId1"/>
          <a:stretch/>
        </p:blipFill>
        <p:spPr>
          <a:xfrm>
            <a:off x="0" y="1628640"/>
            <a:ext cx="7093080" cy="4788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22" name="Text Box 6"/>
          <p:cNvSpPr/>
          <p:nvPr/>
        </p:nvSpPr>
        <p:spPr>
          <a:xfrm>
            <a:off x="6767640" y="2205000"/>
            <a:ext cx="2376360" cy="302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n the 1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July 1918,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ecret polic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ook the family into the cellar and opened fire an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kill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0" y="692280"/>
            <a:ext cx="7740720" cy="2288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corpses were driven off in 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orr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  The officers wanted to throw them down 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ep mine shaf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but on the way the lorry got stuck in th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u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  Instead, the royal family wer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buried in the groun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  The soldiers poure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ulphuric aci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on the faces of the family so that they could not be recogni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556000" y="3500280"/>
            <a:ext cx="6588000" cy="265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For years afterwards the communist government insisted that the decision to murder the Romanovs was made by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local Bolshevik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.  We now know that the orders came from th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communist leadership in Mosc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627280" y="1557360"/>
            <a:ext cx="442764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summer of 1918 saw the start of a terrible civil war in Russia.  On one side were th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Reds – the Communist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  On the other side where th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Whites – royalists who were the opponents of the new governme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  Both sides produced propaganda posters in order to win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BE002327"/>
          <p:cNvPicPr/>
          <p:nvPr/>
        </p:nvPicPr>
        <p:blipFill>
          <a:blip r:embed="rId1"/>
          <a:stretch/>
        </p:blipFill>
        <p:spPr>
          <a:xfrm>
            <a:off x="741240" y="189000"/>
            <a:ext cx="3759480" cy="5589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7" name="Picture 5" descr="373px-Beloe_Delo_1"/>
          <p:cNvPicPr/>
          <p:nvPr/>
        </p:nvPicPr>
        <p:blipFill>
          <a:blip r:embed="rId2"/>
          <a:stretch/>
        </p:blipFill>
        <p:spPr>
          <a:xfrm>
            <a:off x="4859280" y="189000"/>
            <a:ext cx="3468600" cy="5570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8" name="Text Box 6"/>
          <p:cNvSpPr/>
          <p:nvPr/>
        </p:nvSpPr>
        <p:spPr>
          <a:xfrm>
            <a:off x="539640" y="5919840"/>
            <a:ext cx="799308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ich is ‘The Reds’ and which is ‘The Whites’ poster?  What similarities can you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0" y="260280"/>
            <a:ext cx="39956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ver the next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 Black"/>
              </a:rPr>
              <a:t>sevent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years the communists transformed Russia into a new kind of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 Black"/>
              </a:rPr>
              <a:t>empi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0" y="1989000"/>
            <a:ext cx="3995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om being a poor and backward land of peasants, it became an enormously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 Black"/>
              </a:rPr>
              <a:t>powerful stat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known as th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 Black"/>
              </a:rPr>
              <a:t>Soviet U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4508640"/>
            <a:ext cx="39956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communists followed the ideas of a socialist German writer,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 Black"/>
              </a:rPr>
              <a:t>Karl Mar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Karl_Marx"/>
          <p:cNvPicPr/>
          <p:nvPr/>
        </p:nvPicPr>
        <p:blipFill>
          <a:blip r:embed="rId1"/>
          <a:stretch/>
        </p:blipFill>
        <p:spPr>
          <a:xfrm>
            <a:off x="4211640" y="260280"/>
            <a:ext cx="4727520" cy="5545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3" name="Text Box 9"/>
          <p:cNvSpPr/>
          <p:nvPr/>
        </p:nvSpPr>
        <p:spPr>
          <a:xfrm>
            <a:off x="4211640" y="5950080"/>
            <a:ext cx="46814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Marx believed that countries should make and share w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116000" y="115920"/>
            <a:ext cx="2665440" cy="4786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paganda posters taught the people that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capitalis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as an evil system that fed greedy people and created no weal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2770478419_ed640e1f4a"/>
          <p:cNvPicPr/>
          <p:nvPr/>
        </p:nvPicPr>
        <p:blipFill>
          <a:blip r:embed="rId1"/>
          <a:srcRect l="3044" t="2307" r="4446" b="6890"/>
          <a:stretch/>
        </p:blipFill>
        <p:spPr>
          <a:xfrm>
            <a:off x="3940200" y="115920"/>
            <a:ext cx="5095800" cy="659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6" name="Text Box 8"/>
          <p:cNvSpPr/>
          <p:nvPr/>
        </p:nvSpPr>
        <p:spPr>
          <a:xfrm>
            <a:off x="0" y="4680000"/>
            <a:ext cx="4211640" cy="192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cialism (where people were not allowed to start their own businesses) was always shown to be the best possibl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0" y="836640"/>
            <a:ext cx="3600360" cy="265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nin never managed to turn the Soviet Union into a totally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cialis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state. That task was completed by Lenin’s successor,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 Black"/>
              </a:rPr>
              <a:t>Joseph Stal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stalin"/>
          <p:cNvPicPr/>
          <p:nvPr/>
        </p:nvPicPr>
        <p:blipFill>
          <a:blip r:embed="rId1"/>
          <a:srcRect l="2856" t="1440" r="3103" b="2557"/>
          <a:stretch/>
        </p:blipFill>
        <p:spPr>
          <a:xfrm>
            <a:off x="4067280" y="260280"/>
            <a:ext cx="4751280" cy="4753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39" name="Text Box 7"/>
          <p:cNvSpPr/>
          <p:nvPr/>
        </p:nvSpPr>
        <p:spPr>
          <a:xfrm>
            <a:off x="3348000" y="5157720"/>
            <a:ext cx="54720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alin abused the power of the state to transform th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viet Un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 he was determined to create a massive, powerful and fully communist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0" y="3645000"/>
            <a:ext cx="3924360" cy="1130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alin wasn’t his real name – he chose it because it meant 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‘Man of Steel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24000" y="5084640"/>
            <a:ext cx="266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talin modernised the Soviet Union and made it wealthy through industry, although ordinary people got few of the benef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44280"/>
            <a:ext cx="9144000" cy="143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y were the Russians so divided in 1917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TsarNicolasFamily_468x438"/>
          <p:cNvPicPr/>
          <p:nvPr/>
        </p:nvPicPr>
        <p:blipFill>
          <a:blip r:embed="rId1"/>
          <a:stretch/>
        </p:blipFill>
        <p:spPr>
          <a:xfrm>
            <a:off x="0" y="1533600"/>
            <a:ext cx="5796000" cy="54244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5364000" y="4221000"/>
            <a:ext cx="37800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is the Tsar of Russia and his family in 19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5364000" y="5084640"/>
            <a:ext cx="3780000" cy="1618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is empire was huge; it stretched for over 4000 miles east to west.  130 million people lived within its b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250px-Tsar_nikolai"/>
          <p:cNvPicPr/>
          <p:nvPr/>
        </p:nvPicPr>
        <p:blipFill>
          <a:blip r:embed="rId2"/>
          <a:stretch/>
        </p:blipFill>
        <p:spPr>
          <a:xfrm>
            <a:off x="5364000" y="1701720"/>
            <a:ext cx="2311560" cy="2303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179280" y="189000"/>
            <a:ext cx="4103640" cy="192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 Black"/>
              </a:rPr>
              <a:t>Stali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ade sure that nobody challenged his power –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no opposit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o the communist party wa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Stalin_leads_jk"/>
          <p:cNvPicPr/>
          <p:nvPr/>
        </p:nvPicPr>
        <p:blipFill>
          <a:blip r:embed="rId1"/>
          <a:stretch/>
        </p:blipFill>
        <p:spPr>
          <a:xfrm>
            <a:off x="4454640" y="0"/>
            <a:ext cx="468936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179280" y="2276640"/>
            <a:ext cx="4105440" cy="265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o one was safe.  Everyone feared the secret police, who would call in the middle of the night and take away anyone who had shown the slightest resistance to Stal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179280" y="5084640"/>
            <a:ext cx="4105440" cy="1465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people were taught that loyalty to the Communist party was more important than anything else.  As many as 8 million people were shut away in brutal work cam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4643280" y="4941720"/>
            <a:ext cx="450072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istorians think that Stalin ordered the execution of over a million of his own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643280" y="1844640"/>
            <a:ext cx="450072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viet books, newspapers, radio, tv and films were cens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4643280" y="3429000"/>
            <a:ext cx="450072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ools taught children what to think and discouraged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643280" y="260280"/>
            <a:ext cx="450072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urches were destroyed.  People were told that religion was a poi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stalin2"/>
          <p:cNvPicPr/>
          <p:nvPr/>
        </p:nvPicPr>
        <p:blipFill>
          <a:blip r:embed="rId1"/>
          <a:stretch/>
        </p:blipFill>
        <p:spPr>
          <a:xfrm>
            <a:off x="250920" y="333360"/>
            <a:ext cx="4182840" cy="6121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0" y="189000"/>
            <a:ext cx="5904000" cy="265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areas on the edge of the Soviet Union, som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nationalist group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wanted to break free from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viet contro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  Soviet propaganda sai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nationalis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was foolish and that the whole world would eventually be united in one vast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viet U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stalin4"/>
          <p:cNvPicPr/>
          <p:nvPr/>
        </p:nvPicPr>
        <p:blipFill>
          <a:blip r:embed="rId1"/>
          <a:stretch/>
        </p:blipFill>
        <p:spPr>
          <a:xfrm>
            <a:off x="2627280" y="2487600"/>
            <a:ext cx="6516720" cy="43704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012000" y="333360"/>
            <a:ext cx="2952720" cy="228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t also said that capitalist countries were determined to crush and invade the Soviet 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0" y="3141720"/>
            <a:ext cx="2376360" cy="314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oviet leaders put communist leaders in charge across the whole of western Europe – protecting them from the West and creating what was dubbed the </a:t>
            </a: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‘IRON CURTAI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0" y="189000"/>
            <a:ext cx="44276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Soviet leaders kept firm control of their people between 1917 and 19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0" y="1484280"/>
            <a:ext cx="4427640" cy="1922760"/>
          </a:xfrm>
          <a:prstGeom prst="rect">
            <a:avLst/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In 1985,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 Black"/>
              </a:rPr>
              <a:t>Mikhail Gorbachev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became their leader.  He was a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communist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but believed that the time had come for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0" y="3860640"/>
            <a:ext cx="4427640" cy="1556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gave the Soviet people freedom of speech and reli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gorbachev-1988-48x36"/>
          <p:cNvPicPr/>
          <p:nvPr/>
        </p:nvPicPr>
        <p:blipFill>
          <a:blip r:embed="rId1"/>
          <a:stretch/>
        </p:blipFill>
        <p:spPr>
          <a:xfrm>
            <a:off x="4646520" y="907920"/>
            <a:ext cx="4497480" cy="5950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mcdonalds%20moscow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4243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0" name="Text Box 4"/>
          <p:cNvSpPr/>
          <p:nvPr/>
        </p:nvSpPr>
        <p:spPr>
          <a:xfrm>
            <a:off x="0" y="1484280"/>
            <a:ext cx="478800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Black"/>
              </a:rPr>
              <a:t>Gorbachev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ried to encourag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d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by allowing capitalist businesses to start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79280" y="3732120"/>
            <a:ext cx="2519640" cy="3080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orbachev said that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non communist partie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would be allowed in the 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771640" y="4365720"/>
            <a:ext cx="61930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man calle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Black"/>
              </a:rPr>
              <a:t>Boris Yeltsi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started up 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apitalis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pa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771640" y="5276880"/>
            <a:ext cx="619308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Soviet Union ended on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 Black"/>
              </a:rPr>
              <a:t>1</a:t>
            </a:r>
            <a:r>
              <a:rPr b="0" lang="en-GB" sz="2400" spc="-1" strike="noStrike" u="sng" baseline="30000">
                <a:solidFill>
                  <a:srgbClr val="ffffff"/>
                </a:solidFill>
                <a:uFillTx/>
                <a:latin typeface="Arial Black"/>
              </a:rPr>
              <a:t>st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 Black"/>
              </a:rPr>
              <a:t> January 1992.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It broke up into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15 separate nation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 Black"/>
              </a:rPr>
              <a:t>Yeltsin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was the leader of the biggest of these 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Rus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demol"/>
          <p:cNvPicPr/>
          <p:nvPr/>
        </p:nvPicPr>
        <p:blipFill>
          <a:blip r:embed="rId1"/>
          <a:stretch/>
        </p:blipFill>
        <p:spPr>
          <a:xfrm>
            <a:off x="2832120" y="2082960"/>
            <a:ext cx="6311880" cy="47750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65" name="Text Box 4"/>
          <p:cNvSpPr/>
          <p:nvPr/>
        </p:nvSpPr>
        <p:spPr>
          <a:xfrm>
            <a:off x="0" y="260280"/>
            <a:ext cx="4751280" cy="265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orbachev’s new ideas destroyed his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wn care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communist stat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at he was trying to save and led directly to the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apse of the Soviet empir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StalinStatue"/>
          <p:cNvPicPr/>
          <p:nvPr/>
        </p:nvPicPr>
        <p:blipFill>
          <a:blip r:embed="rId2"/>
          <a:stretch/>
        </p:blipFill>
        <p:spPr>
          <a:xfrm>
            <a:off x="6012000" y="189000"/>
            <a:ext cx="2874960" cy="20192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rare-pictures-photos-ww1-first-world-war-russia-russian-soldiers-001"/>
          <p:cNvPicPr/>
          <p:nvPr/>
        </p:nvPicPr>
        <p:blipFill>
          <a:blip r:embed="rId1"/>
          <a:srcRect l="3789" t="4812" r="3628" b="13595"/>
          <a:stretch/>
        </p:blipFill>
        <p:spPr>
          <a:xfrm>
            <a:off x="3203640" y="2133720"/>
            <a:ext cx="5940360" cy="4124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0" name="Text Box 4"/>
          <p:cNvSpPr/>
          <p:nvPr/>
        </p:nvSpPr>
        <p:spPr>
          <a:xfrm>
            <a:off x="0" y="260280"/>
            <a:ext cx="75614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uring the first world war, Russian people became angry and bitter as millions of their soldiers were kil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1628640"/>
            <a:ext cx="3348000" cy="496836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 home the war caused terrible shortages.  Many ordinary Russians couldn’t afford to keep warm or to feed their fami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187200"/>
            <a:ext cx="586728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y March 1917 people were desperate.  Thousands of workers in St Petersburg once again filled the stre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petro1c"/>
          <p:cNvPicPr/>
          <p:nvPr/>
        </p:nvPicPr>
        <p:blipFill>
          <a:blip r:embed="rId1"/>
          <a:stretch/>
        </p:blipFill>
        <p:spPr>
          <a:xfrm>
            <a:off x="971640" y="1771560"/>
            <a:ext cx="8280360" cy="5186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4" name="Text Box 5"/>
          <p:cNvSpPr/>
          <p:nvPr/>
        </p:nvSpPr>
        <p:spPr>
          <a:xfrm>
            <a:off x="0" y="5808600"/>
            <a:ext cx="590544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time they demonstrated against the govern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142044"/>
          <p:cNvPicPr/>
          <p:nvPr/>
        </p:nvPicPr>
        <p:blipFill>
          <a:blip r:embed="rId1"/>
          <a:stretch/>
        </p:blipFill>
        <p:spPr>
          <a:xfrm>
            <a:off x="0" y="981000"/>
            <a:ext cx="6588000" cy="4738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Text Box 4"/>
          <p:cNvSpPr/>
          <p:nvPr/>
        </p:nvSpPr>
        <p:spPr>
          <a:xfrm>
            <a:off x="684360" y="90792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311640" y="404640"/>
            <a:ext cx="583236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he Tsar’s troops refused to fire on the people and joined in the demonst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8360" y="5927760"/>
            <a:ext cx="8675640" cy="76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is was now a </a:t>
            </a: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3527280" y="1268280"/>
            <a:ext cx="5616720" cy="94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Why do you think the soldiers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Arial Black"/>
              </a:rPr>
              <a:t>refused to fire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 on the people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0" y="3645000"/>
            <a:ext cx="723600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hat is the difference between a </a:t>
            </a:r>
            <a:r>
              <a:rPr b="0" lang="en-GB" sz="3600" spc="-1" strike="noStrike" u="sng">
                <a:solidFill>
                  <a:srgbClr val="ff0000"/>
                </a:solidFill>
                <a:uFillTx/>
                <a:latin typeface="Arial Black"/>
              </a:rPr>
              <a:t>demonstration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 and a </a:t>
            </a:r>
            <a:r>
              <a:rPr b="0" lang="en-GB" sz="3600" spc="-1" strike="noStrike" u="sng">
                <a:solidFill>
                  <a:srgbClr val="ff0000"/>
                </a:solidFill>
                <a:uFillTx/>
                <a:latin typeface="Arial Black"/>
              </a:rPr>
              <a:t>revolution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149"/>
          <p:cNvPicPr/>
          <p:nvPr/>
        </p:nvPicPr>
        <p:blipFill>
          <a:blip r:embed="rId1"/>
          <a:stretch/>
        </p:blipFill>
        <p:spPr>
          <a:xfrm>
            <a:off x="1116000" y="2776680"/>
            <a:ext cx="8028000" cy="4081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0" y="260280"/>
            <a:ext cx="388764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he Tsar abdicated in March 191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0" y="1341360"/>
            <a:ext cx="3887640" cy="17474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A 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provisional government</a:t>
            </a: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 took control of Rus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Black"/>
              </a:rPr>
              <a:t>People rejoiced at the end of the mon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148360" y="1413000"/>
            <a:ext cx="385128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eopl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mash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tatu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of the tsars in the stre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lenin"/>
          <p:cNvPicPr/>
          <p:nvPr/>
        </p:nvPicPr>
        <p:blipFill>
          <a:blip r:embed="rId1"/>
          <a:stretch/>
        </p:blipFill>
        <p:spPr>
          <a:xfrm>
            <a:off x="3033720" y="0"/>
            <a:ext cx="6110280" cy="6885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0" y="189000"/>
            <a:ext cx="453708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But the 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</a:rPr>
              <a:t>revolution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was not yet over.  In April 1917 this man returned to Russ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-36360" y="2349360"/>
            <a:ext cx="3130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is name was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 Black"/>
              </a:rPr>
              <a:t>LENIN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nd he was the leader of a political party called th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 Black"/>
              </a:rPr>
              <a:t>BOLSHEVIKS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Lenin and the Bolsheviks were followers of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Arial Black"/>
              </a:rPr>
              <a:t>communism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9:01:11Z</dcterms:created>
  <dc:creator>Jagger</dc:creator>
  <dc:description/>
  <dc:language>en-US</dc:language>
  <cp:lastModifiedBy>Pepe</cp:lastModifiedBy>
  <dcterms:modified xsi:type="dcterms:W3CDTF">2011-08-08T12:13:44Z</dcterms:modified>
  <cp:revision>39</cp:revision>
  <dc:subject/>
  <dc:title>Slide 1</dc:title>
</cp:coreProperties>
</file>